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81FB-DDE6-4D30-A9E3-1D033EF1D32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AND TRANSPORT IN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Y OF DICOT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a dicot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stem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reduces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is transparent allowing light to pass through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may have guard cells to allow gaseous exchange while at the same time reducing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ypodermis of sclerenchyma or collenchyma strengthens the stem and helps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cellular air spaces between the parenchyma cells allow for transport of water and g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odermal cells stores st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lerenchyma fibres gives strength to the plant  and help to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transports water and mineral salts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ransports manufactured food from the leaf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growth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in thickness of the stem is called secondary growth or secondary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thickness takes place in 3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chyma cells between the vascular bundles begin to divide. This with vascular cambium forms a complete ring of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re cambium divides to form secondary xylem on the inside and secondary phloem on the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year a new ring of secondary xylem is formed.  These are called the annual rings. (can tell the age of the tree by counting 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cells making up the older annual rings becomes clogged and are no longer able to transport water and mineral salts.  They become heartw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stem after a complete ring of cambium has been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parenchyma cells in the cortex begin to divide and form cork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ambium divides to form cork cells on its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ells have suberin laid down on their cell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oody stems the stomata are blocked by the presence of cork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of woody stems breaks up to form tiny pores called lenticles which allow gaseous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oo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ap roo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dventitious roo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nd xylem tracheid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re dead cells.  They are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ir cross walls are perforated or completely absent and form continuous tube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have thick walls made up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nin is laid down in various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 ( lignin laid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 thickening ( lignin laid in 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 thickening (laid in ladder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 (laid in p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 are similar to xylem vessels except that the ends are tapered and cross walls are always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walls are perforated or completely absent – this forms xylem roots forms continuous tubes with the xylem stems and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vessles have no living contents – allows the water to flow freely in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ls of the xylem vessels and tracheids are not completely thickened – the unthickened portions and bordered pits allow water to move across the root and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provide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thick-walled – they have a secondary wall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round in cross-section – round structures give additional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nd companion cell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re living cells with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cross walls are perforated to form sieve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thin wall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strands of cytoplasm which run through the sieve plates from one cell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 lie next to the sieve tubes – they are thin walled, with cross walls and has a well-defined nucl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 of 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eve tubes transport manufactured food from the leaves to the all parts of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ion cells probably control the activities of the 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nchyma and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ption and Transport of water and mineral salts by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the root hairs of the epidermis of roots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TO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WATER IS THE DILUT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SAP HAS CONCENTRATION SOLUTION BECAUSE OF HIGH CONCENTRATION OF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MEMBRANE AND TONOPLAST IS SEMI-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MOSIS:  MOVEMENT OF WATER MOLECULES FROM HI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POTENTIAL TO LOW WATER POT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OUGH SEMI 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transport of water and mineral salts to the stele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movement of water and mineral salts through the stem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nchor the plant firml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vaporates from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s diffusion pressure gradient between outside air and 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exists in the water column extending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ve and cohesive forces keep the column contin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ater is continually being pulled upward as water evaporates from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pull = 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 sap of root hair always has low water potential when compared to soi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root hair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osmosis causes pressure forcing water a short distance up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movement of water up narrow tubes because of adhesion and cohesion is called 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en of xylem vessels and tracheids are very narrow therefore capillarity takes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distance is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modifications of leaves to reduce water loss</a:t>
            </a:r>
            <a:br>
              <a:rPr sz="1200"/>
            </a:br>
            <a:r>
              <a:rPr b="0" lang="en-US" sz="1200" spc="-1" strike="noStrike">
                <a:solidFill>
                  <a:srgbClr val="000000"/>
                </a:solidFill>
                <a:latin typeface="Calibri"/>
              </a:rPr>
              <a:t>(Internal factors limiting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ken stomata: In some plants stomata may be sunken or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ckened cuticle: A thick cuticle on the surface of leaves reduces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r on leaves: the sheen r shine of the hairs of some leaves reflect sunlight and reduces transpiration.  Hairs also trap water vapour, restricting wate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size and arrangement of leaves: 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factors affecting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idity: High humidity decreases transpiratio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Increases evaporation and thus transpi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Wind removes the water vapour around leaf thus increasing water vapour pressure grad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Increases evaporation and thus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generally causes an increase in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Loss of turgidity of the cells results in leav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stems, becoming limp, causing them to dr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plant is called wil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 Loss of liquid water through tiny pores, ca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athodes on margin of lea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uses of plants related to their ana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er for furniture-making and building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ket-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ching, matting and broom-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Root T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cap is made up of parenchyma cells. It protects the inner layers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point is made up of meristematic cells.  Some of the new cells produced replace the parenchyma cells of the root cap which were dama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 of elongation – the cells comes from the growing point which begin to elong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 hair region has root hairs, which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ly the cells in this region begin to differentiate into epidermis, parenchyma, sclerenchyma, xylem and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ure region has side roots and fully differentiated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young dicot root,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root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larged Root H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root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oot hairs  of the epidermis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starch and the intercellular spaces allow water and mineral salts to pass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cells of the endodermis direct water into the xylem of the ste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cycle gives rise to sid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transports water and mineral salts from the roots to the stem and leaves.  It also provides strength to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loem transports manufactured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cular cambium gives rise to additional xylem and phloem as the root grows in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leaves in a favourable position to receive light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flowers in a favourable position for pol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ems contain chlorophyll and they therefore manufacture food by the process of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re food an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water and mineral salt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CA030-3BAD-4DC4-B9CE-D3253DCA2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BD754-8873-4F77-BC3A-F8AA10D68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FB3DC-E625-4192-911C-25018CB4F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7B5B4-9EA2-485B-9BF5-E84433C65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4190C-546A-4973-BFEC-BF1C232FA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1F3A0-3508-4FC1-8BD0-C84722671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D7ED8-75A1-44AB-8E11-A0E3DA55B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1F12E-9CC1-42F4-B7E9-136B16B1A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6D42D-E25A-4E7F-831A-771889908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13AA3-9F11-481B-A449-419CE7E3F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ED420-02FE-490E-B066-68D770CFA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2B32A-4E65-4A0F-8F44-9A6EDD666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E8A19-F91A-446F-B541-7DFBB36204F8}"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6E0D-D8CE-45DE-913D-D52619E84C72}"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za/imgres?imgurl=http://www.banglapedia.org/httpdocs/Images/DicotPlantE.jpg&amp;imgrefurl=http://www.banglapedia.org/httpdocs/HT/D_0219.HTM&amp;usg=__JhDjtt2ICyD-hke3edMgfK8p2Gg=&amp;h=342&amp;w=300&amp;sz=43&amp;hl=en&amp;start=6&amp;sig2=1X_jgK71NVqb0soNsOEO8g&amp;tbnid=gL2yvQnsceRLCM:&amp;tbnh=120&amp;tbnw=105&amp;prev=/images?q=dicot+plant&amp;gbv=2&amp;hl=en&amp;sa=G&amp;ei=gkBCS6_xOsjRnAey5OHGAg" TargetMode="External"/><Relationship Id="rId2" Type="http://schemas.openxmlformats.org/officeDocument/2006/relationships/image" Target="../media/image1.jpeg"/><Relationship Id="rId3" Type="http://schemas.openxmlformats.org/officeDocument/2006/relationships/hyperlink" Target="http://images.google.co.za/imgres?imgurl=http://bp0.blogger.com/_l3UibfqaO3Y/SIVrB4tKzKI/AAAAAAAAABI/L16pJM7DZAM/s320/DSC01177.JPG&amp;imgrefurl=http://apbio12008.blogspot.com/2008/07/collected-items.html&amp;usg=__NQAyqOqLYS0vkwZw4rMzc9GRgAY=&amp;h=320&amp;w=274&amp;sz=32&amp;hl=en&amp;start=13&amp;sig2=n2k-ilANXf03lhK-8PZLjA&amp;tbnid=0x445tOzbBlVUM:&amp;tbnh=118&amp;tbnw=101&amp;prev=/images?q=dicot+plant&amp;gbv=2&amp;hl=en&amp;sa=G&amp;ei=gkBCS6_xOsjRnAey5OHGA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google.co.za/imgres?imgurl=http://www.realtrees4kids.org/images/6-8images/dougfirrings.jpg&amp;imgrefurl=http://www.realtrees4kids.org/sixeight/stemsrings.htm&amp;usg=___yhMuUqfx4RCNGIQ7qr_6KEBlAg=&amp;h=303&amp;w=300&amp;sz=19&amp;hl=en&amp;start=2&amp;sig2=Nh_G5Lwm2Q9J9C4RjNMHNA&amp;tbnid=2kjsw_GLjrpIuM:&amp;tbnh=116&amp;tbnw=115&amp;prev=/images?q=annual+rings&amp;gbv=2&amp;hl=en&amp;sa=G&amp;ei=MO5AS_6xMcHlnQfIgJWPBw"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za/imgres?imgurl=http://click4biology.info/c4b/9/images/9.2/xylem.gif&amp;imgrefurl=http://click4biology.info/c4b/9/plant9.2.htm&amp;usg=__zdNnExicUK--sYi-_hUvza8z2_g=&amp;h=210&amp;w=250&amp;sz=4&amp;hl=en&amp;start=2&amp;sig2=t79BRGDvgpZLoTYrGUQZOg&amp;tbnid=sSp0_7ED1PChJM:&amp;tbnh=93&amp;tbnw=111&amp;prev=/images?q=Xylem+vessels+annular+thickening&amp;gbv=2&amp;hl=en&amp;sa=G&amp;ei=WvNAS6u5FaW0nAfDlPzzCg" TargetMode="External"/><Relationship Id="rId2" Type="http://schemas.openxmlformats.org/officeDocument/2006/relationships/image" Target="../media/image16.jpeg"/><Relationship Id="rId3" Type="http://schemas.openxmlformats.org/officeDocument/2006/relationships/hyperlink" Target="http://images.google.co.za/imgres?imgurl=http://image.tutorvista.com/content/plant-histology/xylem-tracheae-left-side-section.jpeg&amp;imgrefurl=http://www.tutorvista.com/content/biology/biology-iii/plant-histology/xylem.php&amp;usg=__46rSGTn0tC6XptOKNgLbmX02OUI=&amp;h=248&amp;w=167&amp;sz=10&amp;hl=en&amp;start=4&amp;sig2=TKE3b-3lTMffMwsEVHmhOQ&amp;tbnid=5Qjyii3t6_HQnM:&amp;tbnh=111&amp;tbnw=75&amp;prev=/images?q=Xylem+vessels+annular+thickening&amp;gbv=2&amp;hl=en&amp;sa=G&amp;ei=WvNAS6u5FaW0nAfDlPzzCg" TargetMode="External"/><Relationship Id="rId4" Type="http://schemas.openxmlformats.org/officeDocument/2006/relationships/image" Target="../media/image17.jpeg"/><Relationship Id="rId5" Type="http://schemas.openxmlformats.org/officeDocument/2006/relationships/hyperlink" Target="http://images.google.co.za/imgres?imgurl=http://www.csupomona.edu/~gdbrum/bot124/images/scalariform%20xylem.jpg&amp;imgrefurl=http://mortada8.maktoobblog.com/1536586/types-of-plants-cells-part-3-the-vascular-system/&amp;usg=__V97AH01LAhfUOAaTmrWBJUvV-yo=&amp;h=848&amp;w=640&amp;sz=381&amp;hl=en&amp;start=5&amp;sig2=KJjkGaNqXlKvulMLPq3a_A&amp;tbnid=JMMScqOOcEHkfM:&amp;tbnh=145&amp;tbnw=109&amp;prev=/images?q=Xylem+vessels+scalariform+thickening&amp;gbv=2&amp;hl=en&amp;sa=G&amp;ei=IfRAS-TOE-iKnAeQj93uAQ" TargetMode="External"/><Relationship Id="rId6" Type="http://schemas.openxmlformats.org/officeDocument/2006/relationships/image" Target="../media/image18.jpeg"/><Relationship Id="rId7" Type="http://schemas.openxmlformats.org/officeDocument/2006/relationships/hyperlink" Target="http://images.google.co.za/imgres?imgurl=http://www.studentsguide.in/biology/morphology-anatomy-flowering-plants/images/pitted.jpg&amp;imgrefurl=http://www.studentsguide.in/biology/morphology-anatomy-flowering-plants/types-of-xylum.html&amp;usg=__Xpdh_yrnTMgISVjD6W4YBFK9Ma0=&amp;h=182&amp;w=71&amp;sz=2&amp;hl=en&amp;start=47&amp;sig2=TgbmDfRr-kp_HCPD9hUxmA&amp;tbnid=V3ViJHoLixvFQM:&amp;tbnh=101&amp;tbnw=39&amp;prev=/images?q=Xylem+vessels+pitted+thickening&amp;gbv=2&amp;ndsp=18&amp;hl=en&amp;sa=N&amp;start=36&amp;ei=mPRAS_nNHumKnAe4-ZScCg" TargetMode="External"/><Relationship Id="rId8" Type="http://schemas.openxmlformats.org/officeDocument/2006/relationships/image" Target="../media/image19.jpeg"/><Relationship Id="rId9" Type="http://schemas.openxmlformats.org/officeDocument/2006/relationships/hyperlink" Target="http://images.google.co.za/imgres?imgurl=http://sols.unlv.edu/Schulte/Anatomy/CellsTissues/TracheidWalls1.jpg&amp;imgrefurl=http://sols.unlv.edu/Schulte/Anatomy/CellsTissues/Cells.html&amp;usg=__zrQx0puJQOEDtHWlm-I16OBIpCE=&amp;h=597&amp;w=766&amp;sz=108&amp;hl=en&amp;start=1&amp;sig2=8XoxjwYuXdhoQwfpAuBC0Q&amp;tbnid=FOliKiIdmorPVM:&amp;tbnh=111&amp;tbnw=142&amp;prev=/images?q=xylem+tracheids&amp;gbv=2&amp;hl=en&amp;sa=G&amp;ei=f_VAS-3zBZu6nAfS79iCCQ" TargetMode="External"/><Relationship Id="rId10" Type="http://schemas.openxmlformats.org/officeDocument/2006/relationships/image" Target="../media/image20.jpeg"/><Relationship Id="rId11" Type="http://schemas.openxmlformats.org/officeDocument/2006/relationships/hyperlink" Target="http://images.google.co.za/imgres?imgurl=http://www.uic.edu/classes/bios/bios100/labs/trachei1.gif&amp;imgrefurl=http://www.uic.edu/classes/bios/bios100/labs/plantanatomy.htm&amp;usg=__zTrtf7qSe5b1B0Aaypzmp8MUsNk=&amp;h=252&amp;w=264&amp;sz=7&amp;hl=en&amp;start=4&amp;sig2=9ZIDNJ65Dc7087YblCQ5oA&amp;tbnid=4P8exugY6hv9OM:&amp;tbnh=107&amp;tbnw=112&amp;prev=/images?q=xylem+tracheids&amp;gbv=2&amp;hl=en&amp;sa=G&amp;ei=f_VAS-3zBZu6nAfS79iCCQ" TargetMode="External"/><Relationship Id="rId12" Type="http://schemas.openxmlformats.org/officeDocument/2006/relationships/image" Target="../media/image21.jpeg"/><Relationship Id="rId13" Type="http://schemas.openxmlformats.org/officeDocument/2006/relationships/slideLayout" Target="../slideLayouts/slideLayout1.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za/imgres?imgurl=http://img.sparknotes.com/figures/D/de8ebcc8ff4d3a7214b83f580ad855f3/phloem.gif&amp;imgrefurl=http://www.sparknotes.com/biology/plants/plantclassification/section2.rhtml&amp;usg=__DZRwaqp8aQg8uOr8ih7LYZUyJE8=&amp;h=456&amp;w=399&amp;sz=28&amp;hl=en&amp;start=8&amp;sig2=TnU1s5ZJDvCiFtsvPZGHjw&amp;tbnid=F-72_SWUckK3xM:&amp;tbnh=128&amp;tbnw=112&amp;prev=/images?q=phloem+tissue&amp;gbv=2&amp;hl=en&amp;sa=G&amp;ei=mftAS9LaINT5nAe0n62RBw" TargetMode="External"/><Relationship Id="rId2" Type="http://schemas.openxmlformats.org/officeDocument/2006/relationships/image" Target="../media/image22.jpeg"/><Relationship Id="rId3" Type="http://schemas.openxmlformats.org/officeDocument/2006/relationships/hyperlink" Target="http://images.google.co.za/imgres?imgurl=http://image.tutorvista.com/content/plant-histology/phloem-structure.jpeg&amp;imgrefurl=http://www.tutorvista.com/content/biology/biology-iii/plant-histology/phloem.php&amp;usg=__K5o8P33-Lep0g5iotHdeCzylyZU=&amp;h=281&amp;w=212&amp;sz=14&amp;hl=en&amp;start=84&amp;sig2=_r7uZ_pvrXFY9nPyM8eiKw&amp;tbnid=eDt5tCSa_rbaoM:&amp;tbnh=114&amp;tbnw=86&amp;prev=/images?q=phloem+tissue&amp;gbv=2&amp;ndsp=18&amp;hl=en&amp;sa=N&amp;start=72&amp;ei=ofxAS6XYH5DvnQfglI2YBw" TargetMode="External"/><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za/imgres?imgurl=http://image.tutorvista.com/content/tissues/collenchyma-simple-tissue.jpeg&amp;imgrefurl=http://www.tutorvista.com/content/science/science-i/tissues/permanent-tissues.php&amp;usg=__T7QxKfzydgZ0T9yu-qokZFXLSd8=&amp;h=273&amp;w=268&amp;sz=22&amp;hl=en&amp;start=29&amp;sig2=-RaJOHjOCIPJhSQp2nurVQ&amp;tbnid=YBtFvRGr3-nq5M:&amp;tbnh=113&amp;tbnw=111&amp;prev=/images?q=collenchyma+cells&amp;gbv=2&amp;ndsp=18&amp;hl=en&amp;sa=N&amp;start=18&amp;ei=2P1AS76OFumrnAe165yaBw" TargetMode="External"/><Relationship Id="rId2" Type="http://schemas.openxmlformats.org/officeDocument/2006/relationships/image" Target="../media/image24.jpeg"/><Relationship Id="rId3" Type="http://schemas.openxmlformats.org/officeDocument/2006/relationships/hyperlink" Target="http://images.google.co.za/imgres?imgurl=http://www.sbs.utexas.edu/mauseth/weblab/webchap5scler/webopener5scler.jpg&amp;imgrefurl=http://www.sbs.utexas.edu/mauseth/weblab/webchap5scler/chapter_5.htm&amp;usg=__GD5TqXjuFFv8SAqATVMW__qFw1g=&amp;h=240&amp;w=320&amp;sz=49&amp;hl=en&amp;start=6&amp;sig2=f7FxLZ_0xBjD8j1PYOgG4w&amp;tbnid=aIdgKDx7Y_dWIM:&amp;tbnh=89&amp;tbnw=118&amp;prev=/images?q=Sclerenchyma&amp;gbv=2&amp;hl=en&amp;sa=G&amp;ei=HP5AS7WUNJ-NnAern-mbBw" TargetMode="External"/><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7136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SUPPORT AND TRANSPORT IN PLAN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14240" y="3214800"/>
            <a:ext cx="6986880" cy="6141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a:rPr>
              <a:t>ANATOMY OF DICOT PLANTS</a:t>
            </a:r>
            <a:endParaRPr b="0" lang="en-US" sz="3200" spc="-1" strike="noStrike">
              <a:solidFill>
                <a:srgbClr val="000000"/>
              </a:solidFill>
              <a:latin typeface="Calibri"/>
            </a:endParaRPr>
          </a:p>
        </p:txBody>
      </p:sp>
      <p:pic>
        <p:nvPicPr>
          <p:cNvPr id="50" name="Picture 2" descr="http://t2.gstatic.com/images?q=tbn:gL2yvQnsceRLCM:http://www.banglapedia.org/httpdocs/Images/DicotPlantE.jpg">
            <a:hlinkClick r:id="rId1"/>
          </p:cNvPr>
          <p:cNvPicPr/>
          <p:nvPr/>
        </p:nvPicPr>
        <p:blipFill>
          <a:blip r:embed="rId2"/>
          <a:stretch/>
        </p:blipFill>
        <p:spPr>
          <a:xfrm>
            <a:off x="1143000" y="3929040"/>
            <a:ext cx="1714680" cy="2428920"/>
          </a:xfrm>
          <a:prstGeom prst="rect">
            <a:avLst/>
          </a:prstGeom>
          <a:ln w="0">
            <a:noFill/>
          </a:ln>
        </p:spPr>
      </p:pic>
      <p:pic>
        <p:nvPicPr>
          <p:cNvPr id="51" name="Picture 6" descr="http://t0.gstatic.com/images?q=tbn:0x445tOzbBlVUM:http://bp0.blogger.com/_l3UibfqaO3Y/SIVrB4tKzKI/AAAAAAAAABI/L16pJM7DZAM/s320/DSC01177.JPG">
            <a:hlinkClick r:id="rId3"/>
          </p:cNvPr>
          <p:cNvPicPr/>
          <p:nvPr/>
        </p:nvPicPr>
        <p:blipFill>
          <a:blip r:embed="rId4"/>
          <a:stretch/>
        </p:blipFill>
        <p:spPr>
          <a:xfrm>
            <a:off x="5715000" y="3929040"/>
            <a:ext cx="1714680" cy="2428920"/>
          </a:xfrm>
          <a:prstGeom prst="rect">
            <a:avLst/>
          </a:prstGeom>
          <a:ln w="0">
            <a:noFill/>
          </a:ln>
        </p:spPr>
      </p:pic>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External structure of a dicot stem</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2143080" y="928800"/>
            <a:ext cx="4429080" cy="5715000"/>
          </a:xfrm>
          <a:prstGeom prst="rect">
            <a:avLst/>
          </a:prstGeom>
          <a:ln w="0">
            <a:noFill/>
          </a:ln>
        </p:spPr>
      </p:pic>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4200" y="274320"/>
            <a:ext cx="8715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ransverse section of a young dicot stem in plan</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571680" y="1214280"/>
            <a:ext cx="8143560" cy="5214960"/>
          </a:xfrm>
          <a:prstGeom prst="rect">
            <a:avLst/>
          </a:prstGeom>
          <a:ln w="0">
            <a:noFill/>
          </a:ln>
        </p:spPr>
      </p:pic>
      <p:sp>
        <p:nvSpPr>
          <p:cNvPr id="8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a young dicot stem in detail</a:t>
            </a:r>
            <a:endParaRPr b="0" lang="en-US" sz="2900" spc="-1" strike="noStrike">
              <a:solidFill>
                <a:srgbClr val="000000"/>
              </a:solidFill>
              <a:latin typeface="Calibri"/>
            </a:endParaRPr>
          </a:p>
        </p:txBody>
      </p:sp>
      <p:pic>
        <p:nvPicPr>
          <p:cNvPr id="87" name="Picture 2" descr=""/>
          <p:cNvPicPr/>
          <p:nvPr/>
        </p:nvPicPr>
        <p:blipFill>
          <a:blip r:embed="rId1"/>
          <a:stretch/>
        </p:blipFill>
        <p:spPr>
          <a:xfrm>
            <a:off x="928800" y="785880"/>
            <a:ext cx="6858000" cy="6072120"/>
          </a:xfrm>
          <a:prstGeom prst="rect">
            <a:avLst/>
          </a:prstGeom>
          <a:ln w="0">
            <a:noFill/>
          </a:ln>
        </p:spPr>
      </p:pic>
      <p:sp>
        <p:nvSpPr>
          <p:cNvPr id="88"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Functions of the various stem tissues</a:t>
            </a:r>
            <a:endParaRPr b="0" lang="en-US" sz="3200" spc="-1" strike="noStrike">
              <a:solidFill>
                <a:srgbClr val="000000"/>
              </a:solidFill>
              <a:latin typeface="Calibri"/>
            </a:endParaRPr>
          </a:p>
        </p:txBody>
      </p:sp>
      <p:sp>
        <p:nvSpPr>
          <p:cNvPr id="90"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reduces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is transparent allowing light to pass through for photosyn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pidermis may have guard cells to allow gaseous exchange while at the same time reducing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ypodermis of sclerenchyma or collenchyma strengthens the stem and helps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chyma of the cortex stores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cellular air spaces between the parenchyma cells allow for transport of water and g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dodermal cells stores st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lerenchyma fibres gives strength to the plant  and help to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ylem transports water and mineral salts from the roots to the lea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loem transports manufactured food from the leaf to the roots</a:t>
            </a:r>
            <a:endParaRPr b="0" lang="en-US" sz="22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ary growth of the stem</a:t>
            </a:r>
            <a:endParaRPr b="0" lang="en-US" sz="3200" spc="-1" strike="noStrike">
              <a:solidFill>
                <a:srgbClr val="000000"/>
              </a:solidFill>
              <a:latin typeface="Calibri"/>
            </a:endParaRPr>
          </a:p>
        </p:txBody>
      </p:sp>
      <p:sp>
        <p:nvSpPr>
          <p:cNvPr id="93" name=""/>
          <p:cNvSpPr txBox="1"/>
          <p:nvPr/>
        </p:nvSpPr>
        <p:spPr>
          <a:xfrm>
            <a:off x="457200" y="114300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ncrease in thickness of the stem is called secondary growth or secondary thickn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lbertus MT Lt"/>
              </a:rPr>
              <a:t>Secondary thickness takes place in 3 ste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secondary xylem and secondary phlo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cor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lenticels</a:t>
            </a:r>
            <a:endParaRPr b="0" lang="en-US" sz="24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8472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Formation of secondary xylem and secondary phloem</a:t>
            </a:r>
            <a:endParaRPr b="0" lang="en-US" sz="2900" spc="-1" strike="noStrike">
              <a:solidFill>
                <a:srgbClr val="000000"/>
              </a:solidFill>
              <a:latin typeface="Calibri"/>
            </a:endParaRPr>
          </a:p>
        </p:txBody>
      </p:sp>
      <p:sp>
        <p:nvSpPr>
          <p:cNvPr id="96"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enchyma cells between the vascular bundles begin to divide. This with vascular cambium forms a complete ring of cambiu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tire cambium divides to form secondary xylem on the inside and secondary phloem on the outsi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ry year a new ring of secondary xylem is formed.  These are called the annual rings. (can tell the age of the tree by counting annual ring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xylem cells making up the older annual rings becomes clogged and are no longer able to transport water and mineral salts.  They become heartwoo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stem after a complete ring of cambium has been formed</a:t>
            </a:r>
            <a:endParaRPr b="0" lang="en-US" sz="2900" spc="-1" strike="noStrike">
              <a:solidFill>
                <a:srgbClr val="000000"/>
              </a:solidFill>
              <a:latin typeface="Calibri"/>
            </a:endParaRPr>
          </a:p>
        </p:txBody>
      </p:sp>
      <p:pic>
        <p:nvPicPr>
          <p:cNvPr id="99" name="Picture 2" descr=""/>
          <p:cNvPicPr/>
          <p:nvPr/>
        </p:nvPicPr>
        <p:blipFill>
          <a:blip r:embed="rId1"/>
          <a:stretch/>
        </p:blipFill>
        <p:spPr>
          <a:xfrm>
            <a:off x="642960" y="1428840"/>
            <a:ext cx="7929720" cy="4857840"/>
          </a:xfrm>
          <a:prstGeom prst="rect">
            <a:avLst/>
          </a:prstGeom>
          <a:ln w="0">
            <a:noFill/>
          </a:ln>
        </p:spPr>
      </p:pic>
      <p:sp>
        <p:nvSpPr>
          <p:cNvPr id="10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Lt"/>
              </a:rPr>
              <a:t>Formation of Cork</a:t>
            </a:r>
            <a:endParaRPr b="0" lang="en-US" sz="2900" spc="-1" strike="noStrike">
              <a:solidFill>
                <a:srgbClr val="000000"/>
              </a:solidFill>
              <a:latin typeface="Calibri"/>
            </a:endParaRPr>
          </a:p>
        </p:txBody>
      </p:sp>
      <p:sp>
        <p:nvSpPr>
          <p:cNvPr id="102" name=""/>
          <p:cNvSpPr txBox="1"/>
          <p:nvPr/>
        </p:nvSpPr>
        <p:spPr>
          <a:xfrm>
            <a:off x="457200" y="785880"/>
            <a:ext cx="8229600" cy="5340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 parenchyma cells in the cortex begin to divide and form cork cambiu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ambium divides to form cork cells on its out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ells have suberin laid down on their cell wal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428760" y="2714760"/>
            <a:ext cx="8072280" cy="4143240"/>
          </a:xfrm>
          <a:prstGeom prst="rect">
            <a:avLst/>
          </a:prstGeom>
          <a:ln w="0">
            <a:noFill/>
          </a:ln>
        </p:spPr>
      </p:pic>
      <p:sp>
        <p:nvSpPr>
          <p:cNvPr id="10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nual Rings</a:t>
            </a:r>
            <a:endParaRPr b="0" lang="en-US" sz="4400" spc="-1" strike="noStrike">
              <a:solidFill>
                <a:srgbClr val="000000"/>
              </a:solidFill>
              <a:latin typeface="Calibri"/>
            </a:endParaRPr>
          </a:p>
        </p:txBody>
      </p:sp>
      <p:pic>
        <p:nvPicPr>
          <p:cNvPr id="106" name="Picture 2" descr="http://www.detectingdesign.com/images/Dendrochronology/TreeRings3.jpg"/>
          <p:cNvPicPr/>
          <p:nvPr/>
        </p:nvPicPr>
        <p:blipFill>
          <a:blip r:embed="rId1"/>
          <a:stretch/>
        </p:blipFill>
        <p:spPr>
          <a:xfrm>
            <a:off x="357120" y="1785960"/>
            <a:ext cx="3714840" cy="4500720"/>
          </a:xfrm>
          <a:prstGeom prst="rect">
            <a:avLst/>
          </a:prstGeom>
          <a:ln w="0">
            <a:noFill/>
          </a:ln>
        </p:spPr>
      </p:pic>
      <p:pic>
        <p:nvPicPr>
          <p:cNvPr id="107" name="Picture 6" descr="http://t0.gstatic.com/images?q=tbn:2kjsw_GLjrpIuM:http://www.realtrees4kids.org/images/6-8images/dougfirrings.jpg">
            <a:hlinkClick r:id="rId2"/>
          </p:cNvPr>
          <p:cNvPicPr/>
          <p:nvPr/>
        </p:nvPicPr>
        <p:blipFill>
          <a:blip r:embed="rId3"/>
          <a:stretch/>
        </p:blipFill>
        <p:spPr>
          <a:xfrm>
            <a:off x="4643280" y="1857240"/>
            <a:ext cx="4000680" cy="4429440"/>
          </a:xfrm>
          <a:prstGeom prst="rect">
            <a:avLst/>
          </a:prstGeom>
          <a:ln w="0">
            <a:noFill/>
          </a:ln>
        </p:spPr>
      </p:pic>
      <p:sp>
        <p:nvSpPr>
          <p:cNvPr id="10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rmation of Lenticles</a:t>
            </a:r>
            <a:endParaRPr b="0" lang="en-US" sz="3200" spc="-1" strike="noStrike">
              <a:solidFill>
                <a:srgbClr val="000000"/>
              </a:solidFill>
              <a:latin typeface="Calibri"/>
            </a:endParaRPr>
          </a:p>
        </p:txBody>
      </p:sp>
      <p:sp>
        <p:nvSpPr>
          <p:cNvPr id="110" name=""/>
          <p:cNvSpPr txBox="1"/>
          <p:nvPr/>
        </p:nvSpPr>
        <p:spPr>
          <a:xfrm>
            <a:off x="457200" y="857160"/>
            <a:ext cx="8229600" cy="52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oody stems the stomata are blocked by the presence of cork cell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pidermis of woody stems breaks up to form tiny pores called lenticles which allow gaseous exchange</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1" name="Picture 2" descr="http://www.nhmi.org/mangroves/pic/w37.jpg"/>
          <p:cNvPicPr/>
          <p:nvPr/>
        </p:nvPicPr>
        <p:blipFill>
          <a:blip r:embed="rId1"/>
          <a:stretch/>
        </p:blipFill>
        <p:spPr>
          <a:xfrm>
            <a:off x="928800" y="2714760"/>
            <a:ext cx="2628720" cy="3838320"/>
          </a:xfrm>
          <a:prstGeom prst="rect">
            <a:avLst/>
          </a:prstGeom>
          <a:ln w="0">
            <a:noFill/>
          </a:ln>
        </p:spPr>
      </p:pic>
      <p:pic>
        <p:nvPicPr>
          <p:cNvPr id="112" name="Picture 4" descr="http://www.botgard.ucla.edu/html/botanytextbooks/generalbotany/images/barkfeatures/Lenticels4.jpg"/>
          <p:cNvPicPr/>
          <p:nvPr/>
        </p:nvPicPr>
        <p:blipFill>
          <a:blip r:embed="rId2"/>
          <a:stretch/>
        </p:blipFill>
        <p:spPr>
          <a:xfrm>
            <a:off x="4857840" y="2857680"/>
            <a:ext cx="2286000" cy="3495600"/>
          </a:xfrm>
          <a:prstGeom prst="rect">
            <a:avLst/>
          </a:prstGeom>
          <a:ln w="0">
            <a:noFill/>
          </a:ln>
        </p:spPr>
      </p:pic>
      <p:sp>
        <p:nvSpPr>
          <p:cNvPr id="11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The Roo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Two types of root syste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tap root syst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adventitious roo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5" name=""/>
          <p:cNvGraphicFramePr/>
          <p:nvPr/>
        </p:nvGraphicFramePr>
        <p:xfrm>
          <a:off x="428760" y="3500280"/>
          <a:ext cx="8358120" cy="2382840"/>
        </p:xfrm>
        <a:graphic>
          <a:graphicData uri="http://schemas.openxmlformats.org/drawingml/2006/table">
            <a:tbl>
              <a:tblPr/>
              <a:tblGrid>
                <a:gridCol w="4179600"/>
                <a:gridCol w="4178520"/>
              </a:tblGrid>
              <a:tr h="402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TAP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ADVENTITIOUS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40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any part of the plant except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2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not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lbertus MT Lt"/>
              </a:rPr>
              <a:t>XYLEM</a:t>
            </a:r>
            <a:endParaRPr b="0" lang="en-US" sz="2200" spc="-1" strike="noStrike">
              <a:solidFill>
                <a:srgbClr val="000000"/>
              </a:solidFill>
              <a:latin typeface="Calibri"/>
            </a:endParaRPr>
          </a:p>
        </p:txBody>
      </p:sp>
      <p:sp>
        <p:nvSpPr>
          <p:cNvPr id="115" name=""/>
          <p:cNvSpPr txBox="1"/>
          <p:nvPr/>
        </p:nvSpPr>
        <p:spPr>
          <a:xfrm>
            <a:off x="457200" y="714240"/>
            <a:ext cx="8229600" cy="5857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issue is made up of four types of cel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vesse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tracheid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sclerenchyma</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parenchyma</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nd xylem tracheids are highly specialised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re dead cells.  They are long, cylindrical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Their cross walls are perforated or completely absent and form continuous tubes from roots to leav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have thick walls made up of ligni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Lignin is laid down in various pattern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Annular thickening ( lignin laid in circl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piral thickening ( lignin laid in spiral)</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calariform thickening (laid in ladder for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Pitted thickening (laid in pit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racheids are similar to xylem vessels except that the ends are tapered and cross walls are always present</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Xylem Vessels</a:t>
            </a:r>
            <a:endParaRPr b="0" lang="en-US" sz="4000" spc="-1" strike="noStrike">
              <a:solidFill>
                <a:srgbClr val="000000"/>
              </a:solidFill>
              <a:latin typeface="Calibri"/>
            </a:endParaRPr>
          </a:p>
        </p:txBody>
      </p:sp>
      <p:pic>
        <p:nvPicPr>
          <p:cNvPr id="118" name="Picture 2" descr="http://t0.gstatic.com/images?q=tbn:sSp0_7ED1PChJM:http://click4biology.info/c4b/9/images/9.2/xylem.gif">
            <a:hlinkClick r:id="rId1"/>
          </p:cNvPr>
          <p:cNvPicPr/>
          <p:nvPr/>
        </p:nvPicPr>
        <p:blipFill>
          <a:blip r:embed="rId2"/>
          <a:stretch/>
        </p:blipFill>
        <p:spPr>
          <a:xfrm>
            <a:off x="428760" y="857160"/>
            <a:ext cx="1928520" cy="2571840"/>
          </a:xfrm>
          <a:prstGeom prst="rect">
            <a:avLst/>
          </a:prstGeom>
          <a:ln w="0">
            <a:noFill/>
          </a:ln>
        </p:spPr>
      </p:pic>
      <p:pic>
        <p:nvPicPr>
          <p:cNvPr id="119" name="Picture 6" descr="http://t2.gstatic.com/images?q=tbn:5Qjyii3t6_HQnM:http://image.tutorvista.com/content/plant-histology/xylem-tracheae-left-side-section.jpeg">
            <a:hlinkClick r:id="rId3"/>
          </p:cNvPr>
          <p:cNvPicPr/>
          <p:nvPr/>
        </p:nvPicPr>
        <p:blipFill>
          <a:blip r:embed="rId4"/>
          <a:stretch/>
        </p:blipFill>
        <p:spPr>
          <a:xfrm>
            <a:off x="2571840" y="857160"/>
            <a:ext cx="1071360" cy="2500560"/>
          </a:xfrm>
          <a:prstGeom prst="rect">
            <a:avLst/>
          </a:prstGeom>
          <a:ln w="0">
            <a:noFill/>
          </a:ln>
        </p:spPr>
      </p:pic>
      <p:pic>
        <p:nvPicPr>
          <p:cNvPr id="120" name="Picture 10" descr="http://t2.gstatic.com/images?q=tbn:JMMScqOOcEHkfM:http://www.csupomona.edu/~gdbrum/bot124/images/scalariform%2520xylem.jpg">
            <a:hlinkClick r:id="rId5"/>
          </p:cNvPr>
          <p:cNvPicPr/>
          <p:nvPr/>
        </p:nvPicPr>
        <p:blipFill>
          <a:blip r:embed="rId6"/>
          <a:stretch/>
        </p:blipFill>
        <p:spPr>
          <a:xfrm>
            <a:off x="4500720" y="857160"/>
            <a:ext cx="1395360" cy="2357640"/>
          </a:xfrm>
          <a:prstGeom prst="rect">
            <a:avLst/>
          </a:prstGeom>
          <a:ln w="0">
            <a:noFill/>
          </a:ln>
        </p:spPr>
      </p:pic>
      <p:pic>
        <p:nvPicPr>
          <p:cNvPr id="121" name="Picture 12" descr="http://t2.gstatic.com/images?q=tbn:V3ViJHoLixvFQM:http://www.studentsguide.in/biology/morphology-anatomy-flowering-plants/images/pitted.jpg">
            <a:hlinkClick r:id="rId7"/>
          </p:cNvPr>
          <p:cNvPicPr/>
          <p:nvPr/>
        </p:nvPicPr>
        <p:blipFill>
          <a:blip r:embed="rId8"/>
          <a:stretch/>
        </p:blipFill>
        <p:spPr>
          <a:xfrm>
            <a:off x="6858000" y="857160"/>
            <a:ext cx="1214280" cy="2143080"/>
          </a:xfrm>
          <a:prstGeom prst="rect">
            <a:avLst/>
          </a:prstGeom>
          <a:ln w="0">
            <a:noFill/>
          </a:ln>
        </p:spPr>
      </p:pic>
      <p:sp>
        <p:nvSpPr>
          <p:cNvPr id="122" name="TextBox 11"/>
          <p:cNvSpPr/>
          <p:nvPr/>
        </p:nvSpPr>
        <p:spPr>
          <a:xfrm>
            <a:off x="222120" y="32860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lar thickening</a:t>
            </a:r>
            <a:endParaRPr b="0" lang="en-US" sz="1800" spc="-1" strike="noStrike">
              <a:solidFill>
                <a:srgbClr val="000000"/>
              </a:solidFill>
              <a:latin typeface="Arial"/>
            </a:endParaRPr>
          </a:p>
        </p:txBody>
      </p:sp>
      <p:sp>
        <p:nvSpPr>
          <p:cNvPr id="123" name="TextBox 12"/>
          <p:cNvSpPr/>
          <p:nvPr/>
        </p:nvSpPr>
        <p:spPr>
          <a:xfrm>
            <a:off x="4576680" y="3214800"/>
            <a:ext cx="123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ari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4" name="TextBox 13"/>
          <p:cNvSpPr/>
          <p:nvPr/>
        </p:nvSpPr>
        <p:spPr>
          <a:xfrm>
            <a:off x="2647440" y="3286080"/>
            <a:ext cx="117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5" name="TextBox 14"/>
          <p:cNvSpPr/>
          <p:nvPr/>
        </p:nvSpPr>
        <p:spPr>
          <a:xfrm>
            <a:off x="6580800" y="292896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tted Thickening</a:t>
            </a:r>
            <a:endParaRPr b="0" lang="en-US" sz="1800" spc="-1" strike="noStrike">
              <a:solidFill>
                <a:srgbClr val="000000"/>
              </a:solidFill>
              <a:latin typeface="Arial"/>
            </a:endParaRPr>
          </a:p>
        </p:txBody>
      </p:sp>
      <p:pic>
        <p:nvPicPr>
          <p:cNvPr id="126" name="Picture 14" descr="http://t2.gstatic.com/images?q=tbn:FOliKiIdmorPVM:http://sols.unlv.edu/Schulte/Anatomy/CellsTissues/TracheidWalls1.jpg">
            <a:hlinkClick r:id="rId9"/>
          </p:cNvPr>
          <p:cNvPicPr/>
          <p:nvPr/>
        </p:nvPicPr>
        <p:blipFill>
          <a:blip r:embed="rId10"/>
          <a:stretch/>
        </p:blipFill>
        <p:spPr>
          <a:xfrm>
            <a:off x="642960" y="4500720"/>
            <a:ext cx="2500200" cy="1714320"/>
          </a:xfrm>
          <a:prstGeom prst="rect">
            <a:avLst/>
          </a:prstGeom>
          <a:ln w="0">
            <a:noFill/>
          </a:ln>
        </p:spPr>
      </p:pic>
      <p:pic>
        <p:nvPicPr>
          <p:cNvPr id="127" name="Picture 16" descr="http://t2.gstatic.com/images?q=tbn:4P8exugY6hv9OM:http://www.uic.edu/classes/bios/bios100/labs/trachei1.gif">
            <a:hlinkClick r:id="rId11"/>
          </p:cNvPr>
          <p:cNvPicPr/>
          <p:nvPr/>
        </p:nvPicPr>
        <p:blipFill>
          <a:blip r:embed="rId12"/>
          <a:stretch/>
        </p:blipFill>
        <p:spPr>
          <a:xfrm>
            <a:off x="5072040" y="4357800"/>
            <a:ext cx="3000240" cy="1785960"/>
          </a:xfrm>
          <a:prstGeom prst="rect">
            <a:avLst/>
          </a:prstGeom>
          <a:ln w="0">
            <a:noFill/>
          </a:ln>
        </p:spPr>
      </p:pic>
      <p:sp>
        <p:nvSpPr>
          <p:cNvPr id="128" name="TextBox 17"/>
          <p:cNvSpPr/>
          <p:nvPr/>
        </p:nvSpPr>
        <p:spPr>
          <a:xfrm>
            <a:off x="571680" y="3857760"/>
            <a:ext cx="764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Xylem Tracheids</a:t>
            </a:r>
            <a:endParaRPr b="0" lang="en-US" sz="3200" spc="-1" strike="noStrike">
              <a:solidFill>
                <a:srgbClr val="000000"/>
              </a:solidFill>
              <a:latin typeface="Arial"/>
            </a:endParaRPr>
          </a:p>
        </p:txBody>
      </p:sp>
      <p:sp>
        <p:nvSpPr>
          <p:cNvPr id="12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Adaptation of xylem to transport</a:t>
            </a:r>
            <a:endParaRPr b="0" lang="en-US" sz="2900" spc="-1" strike="noStrike">
              <a:solidFill>
                <a:srgbClr val="000000"/>
              </a:solidFill>
              <a:latin typeface="Calibri"/>
            </a:endParaRPr>
          </a:p>
        </p:txBody>
      </p:sp>
      <p:sp>
        <p:nvSpPr>
          <p:cNvPr id="131" name=""/>
          <p:cNvSpPr txBox="1"/>
          <p:nvPr/>
        </p:nvSpPr>
        <p:spPr>
          <a:xfrm>
            <a:off x="457200" y="857160"/>
            <a:ext cx="8229600" cy="5268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Cross walls are perforated or completely absent – this forms xylem roots forms continuous tubes with the xylem stems and lea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Xylem vessles have no living contents – allows the water to flow freely in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walls of the xylem vessels and tracheids are not completely thickened – the unthickened portions and bordered pits allow water to move across the root and stem</a:t>
            </a:r>
            <a:endParaRPr b="0" lang="en-US" sz="2400" spc="-1" strike="noStrike">
              <a:solidFill>
                <a:srgbClr val="000000"/>
              </a:solidFill>
              <a:latin typeface="Calibri"/>
            </a:endParaRPr>
          </a:p>
        </p:txBody>
      </p:sp>
      <p:sp>
        <p:nvSpPr>
          <p:cNvPr id="132" name="TextBox 4"/>
          <p:cNvSpPr/>
          <p:nvPr/>
        </p:nvSpPr>
        <p:spPr>
          <a:xfrm>
            <a:off x="428760" y="4143240"/>
            <a:ext cx="8072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T Lt"/>
              </a:rPr>
              <a:t>Adaptation of xylem to provide streng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thick-walled – they have a secondary wall of ligni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round in cross-section – round structures give additional strength</a:t>
            </a:r>
            <a:endParaRPr b="0" lang="en-US" sz="2400" spc="-1" strike="noStrike">
              <a:solidFill>
                <a:srgbClr val="000000"/>
              </a:solidFill>
              <a:latin typeface="Arial"/>
            </a:endParaRPr>
          </a:p>
        </p:txBody>
      </p:sp>
      <p:sp>
        <p:nvSpPr>
          <p:cNvPr id="133"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Phloem</a:t>
            </a:r>
            <a:endParaRPr b="0" lang="en-US" sz="3200" spc="-1" strike="noStrike">
              <a:solidFill>
                <a:srgbClr val="000000"/>
              </a:solidFill>
              <a:latin typeface="Calibri"/>
            </a:endParaRPr>
          </a:p>
        </p:txBody>
      </p:sp>
      <p:sp>
        <p:nvSpPr>
          <p:cNvPr id="135" name=""/>
          <p:cNvSpPr txBox="1"/>
          <p:nvPr/>
        </p:nvSpPr>
        <p:spPr>
          <a:xfrm>
            <a:off x="457200" y="928440"/>
            <a:ext cx="8229600" cy="5197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tissue is made up of four types of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pa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scle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nd companion cells are highly specialis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re living cells with long cylindrical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 cross walls are perforated to form sieve pl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thin wall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tain strands of cytoplasm which run through the sieve plates from one cell to the nex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 lie next to the sieve tubes – they are thin walled, with cross walls and has a well-defined nucleus</a:t>
            </a:r>
            <a:endParaRPr b="0" lang="en-US" sz="2400" spc="-1" strike="noStrike">
              <a:solidFill>
                <a:srgbClr val="000000"/>
              </a:solidFill>
              <a:latin typeface="Calibri"/>
            </a:endParaRPr>
          </a:p>
        </p:txBody>
      </p:sp>
      <p:sp>
        <p:nvSpPr>
          <p:cNvPr id="13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loem tissue</a:t>
            </a:r>
            <a:endParaRPr b="0" lang="en-US" sz="4400" spc="-1" strike="noStrike">
              <a:solidFill>
                <a:srgbClr val="000000"/>
              </a:solidFill>
              <a:latin typeface="Calibri"/>
            </a:endParaRPr>
          </a:p>
        </p:txBody>
      </p:sp>
      <p:pic>
        <p:nvPicPr>
          <p:cNvPr id="138" name="Picture 4" descr="http://t2.gstatic.com/images?q=tbn:F-72_SWUckK3xM:http://img.sparknotes.com/figures/D/de8ebcc8ff4d3a7214b83f580ad855f3/phloem.gif">
            <a:hlinkClick r:id="rId1"/>
          </p:cNvPr>
          <p:cNvPicPr/>
          <p:nvPr/>
        </p:nvPicPr>
        <p:blipFill>
          <a:blip r:embed="rId2"/>
          <a:stretch/>
        </p:blipFill>
        <p:spPr>
          <a:xfrm>
            <a:off x="928800" y="1928880"/>
            <a:ext cx="2714400" cy="3286080"/>
          </a:xfrm>
          <a:prstGeom prst="rect">
            <a:avLst/>
          </a:prstGeom>
          <a:ln w="0">
            <a:noFill/>
          </a:ln>
        </p:spPr>
      </p:pic>
      <p:pic>
        <p:nvPicPr>
          <p:cNvPr id="139" name="Picture 6" descr="http://t1.gstatic.com/images?q=tbn:eDt5tCSa_rbaoM:http://image.tutorvista.com/content/plant-histology/phloem-structure.jpeg">
            <a:hlinkClick r:id="rId3"/>
          </p:cNvPr>
          <p:cNvPicPr/>
          <p:nvPr/>
        </p:nvPicPr>
        <p:blipFill>
          <a:blip r:embed="rId4"/>
          <a:stretch/>
        </p:blipFill>
        <p:spPr>
          <a:xfrm>
            <a:off x="5286240" y="1785960"/>
            <a:ext cx="2357640" cy="4000320"/>
          </a:xfrm>
          <a:prstGeom prst="rect">
            <a:avLst/>
          </a:prstGeom>
          <a:ln w="0">
            <a:noFill/>
          </a:ln>
        </p:spPr>
      </p:pic>
      <p:sp>
        <p:nvSpPr>
          <p:cNvPr id="14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he function of phloem tissue</a:t>
            </a:r>
            <a:endParaRPr b="0" lang="en-US" sz="3200" spc="-1" strike="noStrike">
              <a:solidFill>
                <a:srgbClr val="000000"/>
              </a:solidFill>
              <a:latin typeface="Calibri"/>
            </a:endParaRPr>
          </a:p>
        </p:txBody>
      </p:sp>
      <p:sp>
        <p:nvSpPr>
          <p:cNvPr id="142"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ieve tubes transport manufactured food from the leaves to the all parts of the pl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companion cells probably control the activities of the sieve tubes</a:t>
            </a:r>
            <a:endParaRPr b="0" lang="en-US" sz="3200" spc="-1" strike="noStrike">
              <a:solidFill>
                <a:srgbClr val="000000"/>
              </a:solidFill>
              <a:latin typeface="Calibri"/>
            </a:endParaRPr>
          </a:p>
        </p:txBody>
      </p:sp>
      <p:sp>
        <p:nvSpPr>
          <p:cNvPr id="14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nchyma and Sclerenchyma</a:t>
            </a:r>
            <a:endParaRPr b="0" lang="en-US" sz="4400" spc="-1" strike="noStrike">
              <a:solidFill>
                <a:srgbClr val="000000"/>
              </a:solidFill>
              <a:latin typeface="Calibri"/>
            </a:endParaRPr>
          </a:p>
        </p:txBody>
      </p:sp>
      <p:pic>
        <p:nvPicPr>
          <p:cNvPr id="145" name="Picture 4" descr="http://t1.gstatic.com/images?q=tbn:YBtFvRGr3-nq5M:http://image.tutorvista.com/content/tissues/collenchyma-simple-tissue.jpeg">
            <a:hlinkClick r:id="rId1"/>
          </p:cNvPr>
          <p:cNvPicPr/>
          <p:nvPr/>
        </p:nvPicPr>
        <p:blipFill>
          <a:blip r:embed="rId2"/>
          <a:stretch/>
        </p:blipFill>
        <p:spPr>
          <a:xfrm>
            <a:off x="642960" y="2428920"/>
            <a:ext cx="2786040" cy="3357360"/>
          </a:xfrm>
          <a:prstGeom prst="rect">
            <a:avLst/>
          </a:prstGeom>
          <a:ln w="0">
            <a:noFill/>
          </a:ln>
        </p:spPr>
      </p:pic>
      <p:pic>
        <p:nvPicPr>
          <p:cNvPr id="146" name="Picture 6" descr="http://t0.gstatic.com/images?q=tbn:aIdgKDx7Y_dWIM:http://www.sbs.utexas.edu/mauseth/weblab/webchap5scler/webopener5scler.jpg">
            <a:hlinkClick r:id="rId3"/>
          </p:cNvPr>
          <p:cNvPicPr/>
          <p:nvPr/>
        </p:nvPicPr>
        <p:blipFill>
          <a:blip r:embed="rId4"/>
          <a:stretch/>
        </p:blipFill>
        <p:spPr>
          <a:xfrm>
            <a:off x="5214960" y="1857240"/>
            <a:ext cx="2500200" cy="3571920"/>
          </a:xfrm>
          <a:prstGeom prst="rect">
            <a:avLst/>
          </a:prstGeom>
          <a:ln w="0">
            <a:noFill/>
          </a:ln>
        </p:spPr>
      </p:pic>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T"/>
              </a:rPr>
              <a:t>Absorption and Transport of water and mineral salts by plants</a:t>
            </a:r>
            <a:endParaRPr b="0" lang="en-US" sz="3600" spc="-1" strike="noStrike">
              <a:solidFill>
                <a:srgbClr val="000000"/>
              </a:solidFill>
              <a:latin typeface="Calibri"/>
            </a:endParaRPr>
          </a:p>
        </p:txBody>
      </p:sp>
      <p:sp>
        <p:nvSpPr>
          <p:cNvPr id="150" name=""/>
          <p:cNvSpPr txBox="1"/>
          <p:nvPr/>
        </p:nvSpPr>
        <p:spPr>
          <a:xfrm>
            <a:off x="214200" y="1356840"/>
            <a:ext cx="8715600" cy="4768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the root hairs of the epidermis of roots by osmosis</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POINTS TO REMEMBER</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SOIL WATER IS THE DILUTE SOLUTION</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SAP HAS CONCENTRATION SOLUTION BECAUSE OF HIGH CONCENTRATION OF SALTS.</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MEMBRANE AND TONOPLAST IS SEMI-PERMEABLE MEMBRANE</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OSMOSIS:  MOVEMENT OF WATER MOLECULES FROM HIGH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WATER POTENTIAL TO LOW WATER POTENTIAL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THROUGH SEMI PERMEABLE MEMBRANE.</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Lateral transport of water and mineral salts to the stele of the root</a:t>
            </a:r>
            <a:endParaRPr b="0" lang="en-US" sz="2900" spc="-1" strike="noStrike">
              <a:solidFill>
                <a:srgbClr val="000000"/>
              </a:solidFill>
              <a:latin typeface="Calibri"/>
            </a:endParaRPr>
          </a:p>
        </p:txBody>
      </p:sp>
      <p:pic>
        <p:nvPicPr>
          <p:cNvPr id="153" name="Picture 3" descr=""/>
          <p:cNvPicPr/>
          <p:nvPr/>
        </p:nvPicPr>
        <p:blipFill>
          <a:blip r:embed="rId1"/>
          <a:stretch/>
        </p:blipFill>
        <p:spPr>
          <a:xfrm>
            <a:off x="285840" y="1071720"/>
            <a:ext cx="8643960" cy="5500440"/>
          </a:xfrm>
          <a:prstGeom prst="rect">
            <a:avLst/>
          </a:prstGeom>
          <a:ln w="0">
            <a:noFill/>
          </a:ln>
        </p:spPr>
      </p:pic>
      <p:sp>
        <p:nvSpPr>
          <p:cNvPr id="15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Upward movement of water and mineral salts through the stem from Roots to Leaves</a:t>
            </a:r>
            <a:endParaRPr b="0" lang="en-US" sz="2900" spc="-1" strike="noStrike">
              <a:solidFill>
                <a:srgbClr val="000000"/>
              </a:solidFill>
              <a:latin typeface="Calibri"/>
            </a:endParaRPr>
          </a:p>
        </p:txBody>
      </p:sp>
      <p:pic>
        <p:nvPicPr>
          <p:cNvPr id="156" name="Picture 2" descr=""/>
          <p:cNvPicPr/>
          <p:nvPr/>
        </p:nvPicPr>
        <p:blipFill>
          <a:blip r:embed="rId1"/>
          <a:stretch/>
        </p:blipFill>
        <p:spPr>
          <a:xfrm>
            <a:off x="571680" y="1214280"/>
            <a:ext cx="7786440" cy="52866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375e"/>
                </a:solidFill>
                <a:uFillTx/>
                <a:latin typeface="Bookman"/>
              </a:rPr>
              <a:t>Functions of the roots</a:t>
            </a:r>
            <a:endParaRPr b="0" lang="en-US" sz="4000" spc="-1" strike="noStrike">
              <a:solidFill>
                <a:srgbClr val="000000"/>
              </a:solidFill>
              <a:latin typeface="Calibri"/>
            </a:endParaRPr>
          </a:p>
        </p:txBody>
      </p:sp>
      <p:sp>
        <p:nvSpPr>
          <p:cNvPr id="58"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nchor the plant firmly to the ground.</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bsorb water and mineral sa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irational pu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lla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62" name=""/>
          <p:cNvSpPr txBox="1"/>
          <p:nvPr/>
        </p:nvSpPr>
        <p:spPr>
          <a:xfrm>
            <a:off x="457200" y="1143000"/>
            <a:ext cx="8229600" cy="4983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ranspirational Pul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evaporates from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diffusion pressure gradient between outside air and xy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on exists in the water column extending from the roots to the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hesive and cohesive forces keep the column continu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ater is continually being pulled upward as water evaporates from the lea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Upward pull = transpirational pull</a:t>
            </a:r>
            <a:endParaRPr b="0" lang="en-US" sz="24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Forces responsible for the upward movement of water</a:t>
            </a:r>
            <a:endParaRPr b="0" lang="en-US" sz="2900" spc="-1" strike="noStrike">
              <a:solidFill>
                <a:srgbClr val="000000"/>
              </a:solidFill>
              <a:latin typeface="Calibri"/>
            </a:endParaRPr>
          </a:p>
        </p:txBody>
      </p:sp>
      <p:sp>
        <p:nvSpPr>
          <p:cNvPr id="165" name=""/>
          <p:cNvSpPr txBox="1"/>
          <p:nvPr/>
        </p:nvSpPr>
        <p:spPr>
          <a:xfrm>
            <a:off x="457200" y="1285560"/>
            <a:ext cx="8229600" cy="4840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Root press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ell sap of root hair always has low water potential when compared to soil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root hair by osmo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ontinuous osmosis causes pressure forcing water a short distance up the stem</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pontaneous movement of water up narrow tubes because of adhesion and cohesion is called 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Lumen of xylem vessels and tracheids are very narrow therefore capillarity takes pl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Upward distance is very short</a:t>
            </a:r>
            <a:endParaRPr b="0" lang="en-US" sz="2400" spc="-1" strike="noStrike">
              <a:solidFill>
                <a:srgbClr val="000000"/>
              </a:solidFill>
              <a:latin typeface="Calibri"/>
            </a:endParaRPr>
          </a:p>
        </p:txBody>
      </p:sp>
      <p:sp>
        <p:nvSpPr>
          <p:cNvPr id="16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tructural modifications of leaves to reduce water loss</a:t>
            </a:r>
            <a:br>
              <a:rPr sz="2400"/>
            </a:br>
            <a:r>
              <a:rPr b="0" lang="en-US" sz="2400" spc="-1" strike="noStrike">
                <a:solidFill>
                  <a:srgbClr val="000000"/>
                </a:solidFill>
                <a:latin typeface="Albertus MT"/>
              </a:rPr>
              <a:t>(Internal factors limiting transpiration)</a:t>
            </a:r>
            <a:endParaRPr b="0" lang="en-US" sz="2400" spc="-1" strike="noStrike">
              <a:solidFill>
                <a:srgbClr val="000000"/>
              </a:solidFill>
              <a:latin typeface="Calibri"/>
            </a:endParaRPr>
          </a:p>
        </p:txBody>
      </p:sp>
      <p:sp>
        <p:nvSpPr>
          <p:cNvPr id="168" name=""/>
          <p:cNvSpPr txBox="1"/>
          <p:nvPr/>
        </p:nvSpPr>
        <p:spPr>
          <a:xfrm>
            <a:off x="457200" y="1213920"/>
            <a:ext cx="8229600" cy="53578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unken stomata:</a:t>
            </a:r>
            <a:r>
              <a:rPr b="0" lang="en-US" sz="2400" spc="-1" strike="noStrike" u="sng">
                <a:solidFill>
                  <a:srgbClr val="000000"/>
                </a:solidFill>
                <a:uFillTx/>
                <a:latin typeface="Albertus MT"/>
              </a:rPr>
              <a:t> </a:t>
            </a:r>
            <a:r>
              <a:rPr b="0" lang="en-US" sz="2400" spc="-1" strike="noStrike">
                <a:solidFill>
                  <a:srgbClr val="000000"/>
                </a:solidFill>
                <a:latin typeface="Albertus MT"/>
              </a:rPr>
              <a:t>In some plants stomata may be sunken or small.</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hickened cuticle: </a:t>
            </a:r>
            <a:r>
              <a:rPr b="0" lang="en-US" sz="2400" spc="-1" strike="noStrike">
                <a:solidFill>
                  <a:srgbClr val="000000"/>
                </a:solidFill>
                <a:latin typeface="Albertus MT"/>
              </a:rPr>
              <a:t>A thick cuticle on the surface of leaves reduces the rate of transpiration.</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air on leaves: </a:t>
            </a:r>
            <a:r>
              <a:rPr b="0" lang="en-US" sz="2400" spc="-1" strike="noStrike">
                <a:solidFill>
                  <a:srgbClr val="000000"/>
                </a:solidFill>
                <a:latin typeface="Albertus MT"/>
              </a:rPr>
              <a:t>the sheen r shine of the hairs of some leaves reflect sunlight and reduces transpiration.  Hairs also trap water vapour, restricting water loss.</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hape, size and arrangement of leaves: </a:t>
            </a:r>
            <a:r>
              <a:rPr b="0" lang="en-US" sz="2400" spc="-1" strike="noStrike">
                <a:solidFill>
                  <a:srgbClr val="000000"/>
                </a:solidFill>
                <a:latin typeface="Albertus MT"/>
              </a:rPr>
              <a:t>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Environmental factors affecting the rate of transpiration</a:t>
            </a:r>
            <a:endParaRPr b="0" lang="en-US" sz="2900" spc="-1" strike="noStrike">
              <a:solidFill>
                <a:srgbClr val="000000"/>
              </a:solidFill>
              <a:latin typeface="Calibri"/>
            </a:endParaRPr>
          </a:p>
        </p:txBody>
      </p:sp>
      <p:sp>
        <p:nvSpPr>
          <p:cNvPr id="171"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umidity:</a:t>
            </a:r>
            <a:r>
              <a:rPr b="0" lang="en-US" sz="2400" spc="-1" strike="noStrike" u="sng">
                <a:solidFill>
                  <a:srgbClr val="000000"/>
                </a:solidFill>
                <a:uFillTx/>
                <a:latin typeface="Albertus MT"/>
              </a:rPr>
              <a:t> </a:t>
            </a:r>
            <a:r>
              <a:rPr b="0" lang="en-US" sz="2400" spc="-1" strike="noStrike">
                <a:solidFill>
                  <a:srgbClr val="000000"/>
                </a:solidFill>
                <a:latin typeface="Albertus MT"/>
              </a:rPr>
              <a:t>High humidity decreases transpiration r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Wind:</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increases.  Wind removes the water vapour around leaf thus increasing water vapour pressure gradi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emperature:</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Light:  </a:t>
            </a:r>
            <a:r>
              <a:rPr b="0" lang="en-US" sz="2400" spc="-1" strike="noStrike">
                <a:solidFill>
                  <a:srgbClr val="000000"/>
                </a:solidFill>
                <a:latin typeface="Albertus MT"/>
              </a:rPr>
              <a:t>generally causes an increase in the rate of transpiration</a:t>
            </a:r>
            <a:endParaRPr b="0" lang="en-US" sz="2400" spc="-1" strike="noStrike">
              <a:solidFill>
                <a:srgbClr val="000000"/>
              </a:solidFill>
              <a:latin typeface="Calibri"/>
            </a:endParaRPr>
          </a:p>
        </p:txBody>
      </p:sp>
      <p:sp>
        <p:nvSpPr>
          <p:cNvPr id="17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642960" y="285840"/>
            <a:ext cx="817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ilting:  Loss of turgidity of the cells results in leave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ometimes the stems, becoming limp, causing them to dro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en the plant is called wi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 Loss of liquid water through tiny pores, call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hydathodes on margin of lea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2" descr="http://t2.gstatic.com/images?q=tbn:Fj227jGY3_tPsM:http://www.ez-detox-diet.com/images/wilting-plant.jpg"/>
          <p:cNvPicPr/>
          <p:nvPr/>
        </p:nvPicPr>
        <p:blipFill>
          <a:blip r:embed="rId1"/>
          <a:stretch/>
        </p:blipFill>
        <p:spPr>
          <a:xfrm>
            <a:off x="500040" y="2714760"/>
            <a:ext cx="2714760" cy="3571920"/>
          </a:xfrm>
          <a:prstGeom prst="rect">
            <a:avLst/>
          </a:prstGeom>
          <a:ln w="0">
            <a:noFill/>
          </a:ln>
        </p:spPr>
      </p:pic>
      <p:pic>
        <p:nvPicPr>
          <p:cNvPr id="175" name="Picture 4" descr="http://t2.gstatic.com/images?q=tbn:8xEKByllPDztTM:http://4.bp.blogspot.com/_oCXP3wyQN9w/SdelXbm9xfI/AAAAAAAABcA/rpttPyCi-qI/s400/Guttation.jpg"/>
          <p:cNvPicPr/>
          <p:nvPr/>
        </p:nvPicPr>
        <p:blipFill>
          <a:blip r:embed="rId2"/>
          <a:stretch/>
        </p:blipFill>
        <p:spPr>
          <a:xfrm>
            <a:off x="3929040" y="2714760"/>
            <a:ext cx="1857240" cy="3500280"/>
          </a:xfrm>
          <a:prstGeom prst="rect">
            <a:avLst/>
          </a:prstGeom>
          <a:ln w="0">
            <a:noFill/>
          </a:ln>
        </p:spPr>
      </p:pic>
      <p:pic>
        <p:nvPicPr>
          <p:cNvPr id="176" name="Picture 6" descr="http://t2.gstatic.com/images?q=tbn:uqh-rZGkeHUs1M:http://www.imsc.res.in/~indu/JM/2009/MayJun/Cover/Guttation_ne.jpg"/>
          <p:cNvPicPr/>
          <p:nvPr/>
        </p:nvPicPr>
        <p:blipFill>
          <a:blip r:embed="rId3"/>
          <a:stretch/>
        </p:blipFill>
        <p:spPr>
          <a:xfrm>
            <a:off x="6357960" y="2714760"/>
            <a:ext cx="2286000" cy="3429000"/>
          </a:xfrm>
          <a:prstGeom prst="rect">
            <a:avLst/>
          </a:prstGeom>
          <a:ln w="0">
            <a:noFill/>
          </a:ln>
        </p:spPr>
      </p:pic>
      <p:sp>
        <p:nvSpPr>
          <p:cNvPr id="177" name="TextBox 8"/>
          <p:cNvSpPr/>
          <p:nvPr/>
        </p:nvSpPr>
        <p:spPr>
          <a:xfrm>
            <a:off x="461520" y="6215040"/>
            <a:ext cx="166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T"/>
              </a:rPr>
              <a:t>Wilting Plant</a:t>
            </a:r>
            <a:endParaRPr b="0" lang="en-US" sz="1800" spc="-1" strike="noStrike">
              <a:solidFill>
                <a:srgbClr val="000000"/>
              </a:solidFill>
              <a:latin typeface="Arial"/>
            </a:endParaRPr>
          </a:p>
        </p:txBody>
      </p:sp>
      <p:sp>
        <p:nvSpPr>
          <p:cNvPr id="178" name="TextBox 9"/>
          <p:cNvSpPr/>
          <p:nvPr/>
        </p:nvSpPr>
        <p:spPr>
          <a:xfrm>
            <a:off x="4953960" y="61437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a:t>
            </a:r>
            <a:endParaRPr b="0" lang="en-US" sz="2400" spc="-1" strike="noStrike">
              <a:solidFill>
                <a:srgbClr val="000000"/>
              </a:solidFill>
              <a:latin typeface="Arial"/>
            </a:endParaRPr>
          </a:p>
        </p:txBody>
      </p:sp>
      <p:sp>
        <p:nvSpPr>
          <p:cNvPr id="1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389880" y="1000080"/>
            <a:ext cx="8102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Economic uses of plants related to their anato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Pap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loth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imber for furniture-making and building constru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Basket-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atching, matting and broom-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14200" y="-360"/>
            <a:ext cx="357192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ernal Structure of Root Tip</a:t>
            </a:r>
            <a:endParaRPr b="0" lang="en-US" sz="2000" spc="-1" strike="noStrike">
              <a:solidFill>
                <a:srgbClr val="000000"/>
              </a:solidFill>
              <a:latin typeface="Calibri"/>
            </a:endParaRPr>
          </a:p>
        </p:txBody>
      </p:sp>
      <p:sp>
        <p:nvSpPr>
          <p:cNvPr id="61" name="PlaceHolder 2"/>
          <p:cNvSpPr>
            <a:spLocks noGrp="1"/>
          </p:cNvSpPr>
          <p:nvPr>
            <p:ph/>
          </p:nvPr>
        </p:nvSpPr>
        <p:spPr>
          <a:xfrm>
            <a:off x="285480" y="428760"/>
            <a:ext cx="4500360" cy="6215040"/>
          </a:xfrm>
          <a:prstGeom prst="rect">
            <a:avLst/>
          </a:prstGeom>
          <a:noFill/>
          <a:ln w="0">
            <a:noFill/>
          </a:ln>
        </p:spPr>
        <p:txBody>
          <a:bodyPr anchor="t">
            <a:normAutofit fontScale="93000"/>
          </a:bodyPr>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 </a:t>
            </a:r>
            <a:r>
              <a:rPr b="1" lang="en-US" sz="1900" spc="-1" strike="noStrike">
                <a:solidFill>
                  <a:srgbClr val="984807"/>
                </a:solidFill>
                <a:latin typeface="Bookman"/>
              </a:rPr>
              <a:t>Root cap is made up of parenchyma cells. It protects the inner layers of the root.</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growing point is made up of meristematic cells.  Some of the new cells produced replace the parenchyma cells of the root cap which were damaged.</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Region of elongation – the cells comes from the growing point which begin to elongate.</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root hair region has root hairs, which absorb water and mineral salts.</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Internally the cells in this region begin to differentiate into epidermis, parenchyma, sclerenchyma, xylem and phloem</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 </a:t>
            </a:r>
            <a:r>
              <a:rPr b="1" lang="en-US" sz="1900" spc="-1" strike="noStrike">
                <a:solidFill>
                  <a:srgbClr val="984807"/>
                </a:solidFill>
                <a:latin typeface="Bookman"/>
              </a:rPr>
              <a:t>Mature region has side roots and fully differentiated tissues.</a:t>
            </a:r>
            <a:endParaRPr b="0" lang="en-US" sz="1900" spc="-1" strike="noStrike">
              <a:solidFill>
                <a:srgbClr val="000000"/>
              </a:solidFill>
              <a:latin typeface="Calibri"/>
            </a:endParaRPr>
          </a:p>
        </p:txBody>
      </p:sp>
      <p:pic>
        <p:nvPicPr>
          <p:cNvPr id="62" name="Picture 3" descr=""/>
          <p:cNvPicPr/>
          <p:nvPr/>
        </p:nvPicPr>
        <p:blipFill>
          <a:blip r:embed="rId1"/>
          <a:stretch/>
        </p:blipFill>
        <p:spPr>
          <a:xfrm>
            <a:off x="4714920" y="428760"/>
            <a:ext cx="4143240" cy="6000480"/>
          </a:xfrm>
          <a:prstGeom prst="rect">
            <a:avLst/>
          </a:prstGeom>
          <a:ln w="0">
            <a:noFill/>
          </a:ln>
        </p:spPr>
      </p:pic>
      <p:sp>
        <p:nvSpPr>
          <p:cNvPr id="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young dicot root, in plan</a:t>
            </a:r>
            <a:endParaRPr b="0" lang="en-US" sz="3200" spc="-1" strike="noStrike">
              <a:solidFill>
                <a:srgbClr val="000000"/>
              </a:solidFill>
              <a:latin typeface="Calibri"/>
            </a:endParaRPr>
          </a:p>
        </p:txBody>
      </p:sp>
      <p:sp>
        <p:nvSpPr>
          <p:cNvPr id="65" name=""/>
          <p:cNvSpPr txBox="1"/>
          <p:nvPr/>
        </p:nvSpPr>
        <p:spPr>
          <a:xfrm>
            <a:off x="4648320" y="928440"/>
            <a:ext cx="4038480" cy="51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14200" y="928800"/>
            <a:ext cx="8643960" cy="5357880"/>
          </a:xfrm>
          <a:prstGeom prst="rect">
            <a:avLst/>
          </a:prstGeom>
          <a:ln w="0">
            <a:noFill/>
          </a:ln>
        </p:spPr>
      </p:pic>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4200" y="274680"/>
            <a:ext cx="8715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a young dicot root in detail</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428760" y="857160"/>
            <a:ext cx="8286480" cy="5500800"/>
          </a:xfrm>
          <a:prstGeom prst="rect">
            <a:avLst/>
          </a:prstGeom>
          <a:ln w="0">
            <a:noFill/>
          </a:ln>
        </p:spPr>
      </p:pic>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T Lt"/>
              </a:rPr>
              <a:t>Enlarged Root Hair</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1143000" y="1571760"/>
            <a:ext cx="7072200" cy="4857480"/>
          </a:xfrm>
          <a:prstGeom prst="rect">
            <a:avLst/>
          </a:prstGeom>
          <a:ln w="0">
            <a:noFill/>
          </a:ln>
        </p:spPr>
      </p:pic>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Functions of the various root tissues</a:t>
            </a:r>
            <a:endParaRPr b="0" lang="en-US" sz="2900" spc="-1" strike="noStrike">
              <a:solidFill>
                <a:srgbClr val="000000"/>
              </a:solidFill>
              <a:latin typeface="Calibri"/>
            </a:endParaRPr>
          </a:p>
        </p:txBody>
      </p:sp>
      <p:sp>
        <p:nvSpPr>
          <p:cNvPr id="75" name=""/>
          <p:cNvSpPr txBox="1"/>
          <p:nvPr/>
        </p:nvSpPr>
        <p:spPr>
          <a:xfrm>
            <a:off x="457200" y="928800"/>
            <a:ext cx="8229600" cy="5572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4f6228"/>
                </a:solidFill>
                <a:latin typeface="Calibri"/>
              </a:rPr>
              <a:t> The root hairs  of the epidermis absorb water and mineral sal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renchyma of the cortex stores starch and the intercellular spaces allow water and mineral salts to pass through</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ssage cells of the endodermis direct water into the xylem of the stele.</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ericycle gives rise to sid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xylem transports water and mineral salts from the roots to the stem and leaves.  It also provides strength to the plant.</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hloem transports manufactured food from the leaves to th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vascular cambium gives rise to additional xylem and phloem as the root grows in thicknes</a:t>
            </a:r>
            <a:r>
              <a:rPr b="0" lang="en-US" sz="2700" spc="-1" strike="noStrike">
                <a:solidFill>
                  <a:srgbClr val="000000"/>
                </a:solidFill>
                <a:latin typeface="Calibri"/>
              </a:rPr>
              <a: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tem</a:t>
            </a:r>
            <a:endParaRPr b="0" lang="en-US" sz="3200" spc="-1" strike="noStrike">
              <a:solidFill>
                <a:srgbClr val="000000"/>
              </a:solidFill>
              <a:latin typeface="Calibri"/>
            </a:endParaRPr>
          </a:p>
        </p:txBody>
      </p:sp>
      <p:sp>
        <p:nvSpPr>
          <p:cNvPr id="78"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Functions of the 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leaves in a favourable position to receive light for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flowers in a favourable position for pollin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tems contain chlorophyll and they therefore manufacture food by the process of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store food and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water and mineral salts from roots to lea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food from the leaves to the roots</a:t>
            </a:r>
            <a:endParaRPr b="0" lang="en-US" sz="30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6:54:58Z</dcterms:created>
  <dc:creator>Administrator</dc:creator>
  <dc:description/>
  <dc:language>en-US</dc:language>
  <cp:lastModifiedBy>LEGION2</cp:lastModifiedBy>
  <dcterms:modified xsi:type="dcterms:W3CDTF">2016-01-13T10:13:34Z</dcterms:modified>
  <cp:revision>9</cp:revision>
  <dc:subject/>
  <dc:title>SUPPORT AND TRANSPORT IN PLANTS</dc:title>
</cp:coreProperties>
</file>